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5.wmf" ContentType="image/x-wmf"/>
  <Override PartName="/ppt/media/image22.jpeg" ContentType="image/jpeg"/>
  <Override PartName="/ppt/media/image39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38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6.wmf" ContentType="image/x-wmf"/>
  <Override PartName="/ppt/media/image11.png" ContentType="image/png"/>
  <Override PartName="/ppt/media/image9.jpeg" ContentType="image/jpeg"/>
  <Override PartName="/ppt/media/image35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8.jpeg" ContentType="image/jpeg"/>
  <Override PartName="/ppt/media/image3.jpeg" ContentType="image/jpeg"/>
  <Override PartName="/ppt/media/image30.png" ContentType="image/png"/>
  <Override PartName="/ppt/media/image23.jpeg" ContentType="image/jpeg"/>
  <Override PartName="/ppt/media/image16.png" ContentType="image/pn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25EF-FA35-4084-9BAF-6325B6B5D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B597-92EA-4617-926A-AAD97C995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C93-F455-4BBC-8A65-38E4E41C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407D-68CE-402F-8559-19CC7F36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F77A-BDFC-432F-AF59-0B8E1863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C59D-E668-402F-837D-CE4E2462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8BBC-DBD7-441A-956E-02124355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2AA-09E1-429C-97BC-F16C2EA8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C367-E80F-4BFD-BF2C-B6FEFFAD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C0AC-55D6-40CB-ABCD-F5D67752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018-347E-4F49-8ADA-2E6C810A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A673-00CC-440C-8049-38276719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3A1-9E02-485F-B911-3CC44D9E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7244-C501-4AE3-9492-1E51EB3B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149A-BBD7-4387-BF8D-36664540F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5791320" y="64008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Uso Correcto de su Tarjeta de 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2A90-8424-4F68-85A0-5E6D14883626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harge It Right title slide with FDIC Money Smart logo and module logo of credit car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76320" y="838080"/>
            <a:ext cx="66294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o Correcto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380880" y="1981080"/>
            <a:ext cx="6553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 su Tarjeta de Cr</a:t>
            </a:r>
            <a:r>
              <a:rPr b="1" lang="es-E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édi</a:t>
            </a:r>
            <a:r>
              <a:rPr b="1" lang="en-U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o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6324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eve y María necesitan otro auto. Tienen algo de dinero para pagar la entrada de un auto nuevo, pero aún necesitan tomar unos $10,000 prestados para comprarl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6858000" y="129528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so crediticio: Comprar un au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57200" y="3962520"/>
            <a:ext cx="83818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 no devuelven o no pueden devolver el préstamo, ¿qué podría hacer el prestamista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Las tarjetas de crédito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n una línea de crédito abierto c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límite de dinero preaproba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pago mínimo mens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r ejemplo, $15 por un saldo de $6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on tarjetas de cobro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tiene que pagar el saldo completo cada 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Las tarjetas de d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están asociadas a una cuenta corri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6" descr="Credit card"/>
          <p:cNvPicPr/>
          <p:nvPr/>
        </p:nvPicPr>
        <p:blipFill>
          <a:blip r:embed="rId1"/>
          <a:stretch/>
        </p:blipFill>
        <p:spPr>
          <a:xfrm>
            <a:off x="6781680" y="16765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¿Qué es una tarjeta de crédit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tarjet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536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valor resguard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crédito aseguradas y no asegur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oro y plat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prem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pre aprob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ontent Placeholder 2"/>
          <p:cNvSpPr/>
          <p:nvPr/>
        </p:nvSpPr>
        <p:spPr>
          <a:xfrm>
            <a:off x="5029200" y="977760"/>
            <a:ext cx="3962520" cy="5181840"/>
          </a:xfrm>
          <a:prstGeom prst="rect">
            <a:avLst/>
          </a:prstGeom>
          <a:solidFill>
            <a:srgbClr val="252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ej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Lea las divulgaciones antes de solicitar una tarje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vise los costos/pen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Entienda sus protecciones como consumi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me medidas para protegerse del fraude o del rob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6840" y="9907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 requerido por ley fede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ben destacar las tasas, los costos y otros términos cla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jemplo de la secci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㮠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 tasas de inter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鳠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 una divulgaci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384120"/>
            <a:ext cx="90676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Divulgación de Veracidad en los Préstamo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Sample truth in lending disclosure statement showing the APR for purchases, balance transfers, cash advances, and the Penalty APR and when it applies"/>
          <p:cNvPicPr/>
          <p:nvPr/>
        </p:nvPicPr>
        <p:blipFill>
          <a:blip r:embed="rId1"/>
          <a:stretch/>
        </p:blipFill>
        <p:spPr>
          <a:xfrm>
            <a:off x="762120" y="2590920"/>
            <a:ext cx="7915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06380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5560" indent="-29556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quiere elegir una tarjeta de crédito, compar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tasa porcentual anual (APR) par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omp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Transferencias de sal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Adelantos de din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de penalidad y cuándo se ap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stos, como el costo an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eriodo de gracia, si exi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étodo de computar sal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érminos de l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Weight with a percentage symbol"/>
          <p:cNvPicPr/>
          <p:nvPr/>
        </p:nvPicPr>
        <p:blipFill>
          <a:blip r:embed="rId1"/>
          <a:stretch/>
        </p:blipFill>
        <p:spPr>
          <a:xfrm>
            <a:off x="6929280" y="2209680"/>
            <a:ext cx="17575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asa porcentual anual (AP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APR:</a:t>
            </a:r>
            <a:r>
              <a:rPr b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costo de tomar dinero prestado a lo largo de un año (interés + costo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usque una APR ba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costos anuales y otros car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cuánto durarán las tasas iniciales y si la nueva tasa será fija o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redit card icon with percentage symbol"/>
          <p:cNvPicPr/>
          <p:nvPr/>
        </p:nvPicPr>
        <p:blipFill>
          <a:blip r:embed="rId1"/>
          <a:stretch/>
        </p:blipFill>
        <p:spPr>
          <a:xfrm>
            <a:off x="3657600" y="42670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umento de APR en saldos </a:t>
            </a:r>
            <a:r>
              <a:rPr b="1" lang="es-ES" sz="36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existentes</a:t>
            </a: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0440" y="1112760"/>
            <a:ext cx="872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que se aplica al dinero que debe por cargos ya realizados (saldo existente) por lo general no se puede aumentar a no ser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le informe del aumento cuando abre la cuneta y la tasa inicial dura al menos 6 me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ya un cambio en una tasa basada en el ?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cumple con un acuerdo de resolu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hace el pago mínimo requerido en el plazo de 60 días tras la fecha de vencimien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412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Aumento de APR en transacciones </a:t>
            </a:r>
            <a:r>
              <a:rPr b="1" lang="es-ES" sz="33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nuevas</a:t>
            </a:r>
            <a:r>
              <a:rPr b="1" lang="es-E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que se aplica a transacciones nuevas por lo general no puede aumentar en el plazo de un año después de emitir la tarjeta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xcepto si tiene una tarjeta de tasa variable y el índice aumenta o la tasa de promoción expi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acreedor debe notificarle con 45 días de ante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puede cancelar la tarjeta antes de que entren en vigor los camb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R de penaliz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APR de finaliz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un aumento permanente en la tasa de interés si no paga su tarjeta de crédito a tiemp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ser el doble de la APR nor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ás detalles en las divulgaciones de Veracidad en los Préstam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Three stacks of money that increase in height and an arrow indicating the increase"/>
          <p:cNvPicPr/>
          <p:nvPr/>
        </p:nvPicPr>
        <p:blipFill>
          <a:blip r:embed="rId1"/>
          <a:stretch/>
        </p:blipFill>
        <p:spPr>
          <a:xfrm>
            <a:off x="3429000" y="4343400"/>
            <a:ext cx="19350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r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98712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an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argos por pago atrasad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por gastar más del lími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por transferencia de sal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por adelanto de din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por aumentar el límite del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transacciones en extranj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5" descr="Dollar sign"/>
          <p:cNvPicPr/>
          <p:nvPr/>
        </p:nvPicPr>
        <p:blipFill>
          <a:blip r:embed="rId1"/>
          <a:stretch/>
        </p:blipFill>
        <p:spPr>
          <a:xfrm>
            <a:off x="6400800" y="1447920"/>
            <a:ext cx="2201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91120" y="18288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9536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ite los cargos de financiación al saldar su deuda por completo, o al hacer el pago mínimo, antes o en la fecha de vencimi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eriodo de gra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2" descr="Calendar"/>
          <p:cNvPicPr/>
          <p:nvPr/>
        </p:nvPicPr>
        <p:blipFill>
          <a:blip r:embed="rId1"/>
          <a:stretch/>
        </p:blipFill>
        <p:spPr>
          <a:xfrm>
            <a:off x="3200400" y="27432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ounded Rectangle 9"/>
          <p:cNvGrpSpPr/>
          <p:nvPr/>
        </p:nvGrpSpPr>
        <p:grpSpPr>
          <a:xfrm>
            <a:off x="1335240" y="3846600"/>
            <a:ext cx="6619680" cy="1444680"/>
            <a:chOff x="1335240" y="3846600"/>
            <a:chExt cx="6619680" cy="1444680"/>
          </a:xfrm>
        </p:grpSpPr>
        <p:pic>
          <p:nvPicPr>
            <p:cNvPr id="152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1335240" y="3846600"/>
              <a:ext cx="6619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438200" y="3952800"/>
              <a:ext cx="641988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 txBox="1"/>
          <p:nvPr/>
        </p:nvSpPr>
        <p:spPr>
          <a:xfrm>
            <a:off x="38088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6600" indent="-2466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saldo diario promedi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 el método más común usa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aldo x APR x día en el ciclo de factur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ías en el año calend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200 x 0.10 x 30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36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traight Connector 5"/>
          <p:cNvSpPr/>
          <p:nvPr/>
        </p:nvSpPr>
        <p:spPr>
          <a:xfrm>
            <a:off x="2286000" y="4572000"/>
            <a:ext cx="32004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5867280" y="430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$1.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7"/>
          <p:cNvSpPr/>
          <p:nvPr/>
        </p:nvSpPr>
        <p:spPr>
          <a:xfrm>
            <a:off x="1295280" y="3124080"/>
            <a:ext cx="6477120" cy="1800"/>
          </a:xfrm>
          <a:prstGeom prst="line">
            <a:avLst/>
          </a:prstGeom>
          <a:ln w="38160">
            <a:solidFill>
              <a:srgbClr val="132f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étodo de computación de sal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ervicio al clien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servicios por teléfono e Internet le pueden ayudar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cceder a la información de la cuenta, como el saldo y cargos rec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 sus facturas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ctualizar su información personal, como su dire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Customer service agent speaking into headset"/>
          <p:cNvPicPr/>
          <p:nvPr/>
        </p:nvPicPr>
        <p:blipFill>
          <a:blip r:embed="rId1"/>
          <a:stretch/>
        </p:blipFill>
        <p:spPr>
          <a:xfrm>
            <a:off x="3429000" y="4191120"/>
            <a:ext cx="242712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alizar otras funciones cla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987120"/>
            <a:ext cx="84582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órmese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leyes que le protegen contra errores de facturación y cargos no autoriza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Otras protecciones que ofrezcan las compañías de tarjetas de crédito (por ejemplo, un periodo de garantía extendido para ciertas compr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ómese un momento para entender bien los costos, las ventajas y la verdadera cobertura de los programas de "protección del crédito" o "suspensión de deudas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monto mímimo de crédito que le otorga la compañía de tarjeta de crédito basado en factores como s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Rectangle 3" descr=""/>
          <p:cNvPicPr/>
          <p:nvPr/>
        </p:nvPicPr>
        <p:blipFill>
          <a:blip r:embed="rId1"/>
          <a:stretch/>
        </p:blipFill>
        <p:spPr>
          <a:xfrm>
            <a:off x="811080" y="2266920"/>
            <a:ext cx="6967800" cy="109872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4" descr=""/>
          <p:cNvPicPr/>
          <p:nvPr/>
        </p:nvPicPr>
        <p:blipFill>
          <a:blip r:embed="rId2"/>
          <a:stretch/>
        </p:blipFill>
        <p:spPr>
          <a:xfrm>
            <a:off x="2030400" y="3103560"/>
            <a:ext cx="6643800" cy="1103400"/>
          </a:xfrm>
          <a:prstGeom prst="rect">
            <a:avLst/>
          </a:prstGeom>
          <a:ln w="0">
            <a:noFill/>
          </a:ln>
        </p:spPr>
      </p:pic>
      <p:pic>
        <p:nvPicPr>
          <p:cNvPr id="167" name="Rectangle 5" descr=""/>
          <p:cNvPicPr/>
          <p:nvPr/>
        </p:nvPicPr>
        <p:blipFill>
          <a:blip r:embed="rId3"/>
          <a:stretch/>
        </p:blipFill>
        <p:spPr>
          <a:xfrm>
            <a:off x="3170160" y="3943440"/>
            <a:ext cx="3333960" cy="1098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ímite de l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ónde solicitar un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  <a:ea typeface="Arial"/>
              </a:rPr>
              <a:t>¿Dónde cree que podría ir a solicitar una tarjeta de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an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ablecimi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odo lo a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5210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ted tiene el derecho de optar por excluirse de recibir ofertas de tarjetas de crédito por corre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1-888-5-OPTOUT (567-868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e 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nº de teléfono en la oferta de crédi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tar por no compartir información person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Cell phone"/>
          <p:cNvPicPr/>
          <p:nvPr/>
        </p:nvPicPr>
        <p:blipFill>
          <a:blip r:embed="rId1"/>
          <a:stretch/>
        </p:blipFill>
        <p:spPr>
          <a:xfrm>
            <a:off x="838080" y="4552920"/>
            <a:ext cx="20750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6840" y="9907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12840" indent="-312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individu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Basado en sus propios activos, ingresos, su habilidad de pagar y su historial crediticio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sted es responsable de pagar la factura de la tarjeta de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840" indent="-312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mancomuna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Basado en los activos, ingresos, la habilidad de pagar y el historial crediticio de las dos personas que lo solicita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mbos solicitantes son responsables de la factura de la tarjeta de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30592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édito individual vs mancomun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6840" y="11430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Los consumidores </a:t>
            </a:r>
            <a:r>
              <a:rPr b="1" lang="es-ES" sz="3200" spc="-1" strike="noStrike" u="sng">
                <a:solidFill>
                  <a:srgbClr val="002060"/>
                </a:solidFill>
                <a:uFillTx/>
                <a:latin typeface="Helvetica Neue"/>
                <a:ea typeface="MS PGothic"/>
              </a:rPr>
              <a:t>menores de 21 años</a:t>
            </a:r>
            <a:r>
              <a:rPr b="1" lang="es-E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Deben tener un aval,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Deben demostrar su habilidad de poder pa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Si usted es un padre o una madre, estén preparados para ser av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MS PGothic"/>
              </a:rPr>
              <a:t>Proporcionar información correcta en una solicitud de crédit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MS PGothic"/>
              </a:rPr>
              <a:t>Dar información falsa es un del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quisitos para una solicit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acidad:</a:t>
            </a:r>
            <a:r>
              <a:rPr b="1" lang="es-ES" sz="3000" spc="-1" strike="noStrike">
                <a:solidFill>
                  <a:srgbClr val="0070c0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us posibilidades presentes y futuras de cumplir con las obligaciones de pa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ital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sus bienes y capital ne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Reputación: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cómo han pagado sus cuentas o deudas en el pas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Garantía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piedad o bienes ofrecidos para garantizar el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os cuatro fact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12193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finir el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licar por qué el crédito es importa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los factores que tienen en cuenta los acreedores para tomar decisiones en materia de crédi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ir el propósito de las tarjetas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acidad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tiempo ha estado en su empleo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gana por 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es son sus gastos mensuales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6" descr="Several people reviewing a set of house or building plans"/>
          <p:cNvPicPr/>
          <p:nvPr/>
        </p:nvPicPr>
        <p:blipFill>
          <a:blip r:embed="rId1"/>
          <a:stretch/>
        </p:blipFill>
        <p:spPr>
          <a:xfrm>
            <a:off x="2590920" y="3276720"/>
            <a:ext cx="3305160" cy="2195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tiene en su cuenta corriente y cuenta de ahorro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Es propietario de una vivienda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 inversiones u otros bienes (p. ej. un automóvil)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" descr="Cash"/>
          <p:cNvPicPr/>
          <p:nvPr/>
        </p:nvPicPr>
        <p:blipFill>
          <a:blip r:embed="rId1"/>
          <a:stretch/>
        </p:blipFill>
        <p:spPr>
          <a:xfrm>
            <a:off x="5029200" y="3429000"/>
            <a:ext cx="30481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put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8276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Alguna vez ha tenido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as cuentas de crédito tien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Alguna vez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declaró en bancarrot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uvo un juicio por deuda pendiente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propiedad suya fue embargada o ejecutada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 hecho pagos atrasad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Man sitting in front of a pile of bills and final notices with his head in his hands "/>
          <p:cNvPicPr/>
          <p:nvPr/>
        </p:nvPicPr>
        <p:blipFill>
          <a:blip r:embed="rId1"/>
          <a:stretch/>
        </p:blipFill>
        <p:spPr>
          <a:xfrm>
            <a:off x="7391520" y="2743200"/>
            <a:ext cx="15206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 bienes para garantizar el préstamo más allá de su capacidad de devolverlo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Model house"/>
          <p:cNvPicPr/>
          <p:nvPr/>
        </p:nvPicPr>
        <p:blipFill>
          <a:blip r:embed="rId1"/>
          <a:stretch/>
        </p:blipFill>
        <p:spPr>
          <a:xfrm>
            <a:off x="2417760" y="2514600"/>
            <a:ext cx="387972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Qué buscan lo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People in suits reviewing information"/>
          <p:cNvPicPr/>
          <p:nvPr/>
        </p:nvPicPr>
        <p:blipFill>
          <a:blip r:embed="rId1"/>
          <a:stretch/>
        </p:blipFill>
        <p:spPr>
          <a:xfrm>
            <a:off x="257040" y="1295280"/>
            <a:ext cx="8629920" cy="4191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3733560" y="175248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emos hablado sobre la información que buscan los acreedores a la hora de decidir si autorizarle una tarjeta de crédito, pero ¿dónde creen que encontrarán esta información</a:t>
            </a: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Qué buscan lo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523880" y="4495680"/>
            <a:ext cx="60199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088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u informe crediticio le informa a los acreedores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Quiíen es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ánto  dinero de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 ha realizado sus pagos a tiem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 ha tenido algún cobro de cuentas en mora, bancarrotas, sentencias, etc. cont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ántas consultas se han realizado de su informe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forme crediti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04920" y="141768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resentamos a Cath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Tiene 25 añ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unca ha tenido una tarjeta de crédito ni un préstam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tiene historial crediticio excepto por una consulta que hizo su casero cuando alquiló su apartamento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2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decide un acreedor si Cathy es un buen riesgo creditici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" descr="C:\Documents and Settings\Karissa\Local Settings\Temporary Internet Files\Content.IE5\6ZO5JZWK\MPj04424310000[1].jpg"/>
          <p:cNvPicPr/>
          <p:nvPr/>
        </p:nvPicPr>
        <p:blipFill>
          <a:blip r:embed="rId1"/>
          <a:stretch/>
        </p:blipFill>
        <p:spPr>
          <a:xfrm>
            <a:off x="6629400" y="1828800"/>
            <a:ext cx="18288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so crediticio: No tener historial no es un mister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Group 4" descr=""/>
          <p:cNvPicPr/>
          <p:nvPr/>
        </p:nvPicPr>
        <p:blipFill>
          <a:blip r:embed="rId1"/>
          <a:stretch/>
        </p:blipFill>
        <p:spPr>
          <a:xfrm>
            <a:off x="1474920" y="2451240"/>
            <a:ext cx="6205320" cy="168264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3" descr=""/>
          <p:cNvPicPr/>
          <p:nvPr/>
        </p:nvPicPr>
        <p:blipFill>
          <a:blip r:embed="rId2"/>
          <a:stretch/>
        </p:blipFill>
        <p:spPr>
          <a:xfrm>
            <a:off x="1457280" y="1079640"/>
            <a:ext cx="6205680" cy="168264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6" descr=""/>
          <p:cNvPicPr/>
          <p:nvPr/>
        </p:nvPicPr>
        <p:blipFill>
          <a:blip r:embed="rId3"/>
          <a:stretch/>
        </p:blipFill>
        <p:spPr>
          <a:xfrm>
            <a:off x="1457280" y="3786120"/>
            <a:ext cx="6205680" cy="16812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gencias de informes creditic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e 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annualcreditreport.c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877-322-822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criba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Credit Report Request Serv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. O. Box 10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lanta, GA 30348-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forme Crediticio Anual Gratu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Right Arrow 5"/>
          <p:cNvGrpSpPr/>
          <p:nvPr/>
        </p:nvGrpSpPr>
        <p:grpSpPr>
          <a:xfrm>
            <a:off x="974880" y="4151160"/>
            <a:ext cx="6595920" cy="682920"/>
            <a:chOff x="974880" y="4151160"/>
            <a:chExt cx="6595920" cy="682920"/>
          </a:xfrm>
        </p:grpSpPr>
        <p:pic>
          <p:nvPicPr>
            <p:cNvPr id="208" name="Right Arrow 5" descr=""/>
            <p:cNvPicPr/>
            <p:nvPr/>
          </p:nvPicPr>
          <p:blipFill>
            <a:blip r:embed="rId1"/>
            <a:stretch/>
          </p:blipFill>
          <p:spPr>
            <a:xfrm>
              <a:off x="974880" y="4151160"/>
              <a:ext cx="659592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90720" y="4341960"/>
              <a:ext cx="6400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 txBox="1"/>
          <p:nvPr/>
        </p:nvSpPr>
        <p:spPr>
          <a:xfrm>
            <a:off x="45720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número que ayuda a los prestamistas a determinar su riesgo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s tip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ntaje FICO (Fair Isaac Sco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Rectangle 4" descr=""/>
          <p:cNvPicPr/>
          <p:nvPr/>
        </p:nvPicPr>
        <p:blipFill>
          <a:blip r:embed="rId2"/>
          <a:stretch/>
        </p:blipFill>
        <p:spPr>
          <a:xfrm>
            <a:off x="927000" y="3621240"/>
            <a:ext cx="7083360" cy="828360"/>
          </a:xfrm>
          <a:prstGeom prst="rect">
            <a:avLst/>
          </a:prstGeom>
          <a:ln w="0">
            <a:noFill/>
          </a:ln>
        </p:spPr>
      </p:pic>
      <p:pic>
        <p:nvPicPr>
          <p:cNvPr id="212" name="Rectangle 6" descr=""/>
          <p:cNvPicPr/>
          <p:nvPr/>
        </p:nvPicPr>
        <p:blipFill>
          <a:blip r:embed="rId3"/>
          <a:stretch/>
        </p:blipFill>
        <p:spPr>
          <a:xfrm>
            <a:off x="1689120" y="4462560"/>
            <a:ext cx="6321240" cy="8287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untaje crediti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11426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si está preparado para solicitar una tarjeta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tarjeta de crédito es la más adecuada para us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ir cómo utilizar una tarjeta de crédito de manera respons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los pasos a seguir si pierdo o me roban una tarjeta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Si su solicitud para crédito es deneg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n aviso de denegación o aviso de acción adversa, indica los motivos por los que un crédito es denegad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compañías de tarjetas de crédito deben darle los motivos por los que se le denegó un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con la agencia crediticia en el plazo de 60 días de recibir la denegación para recibir una copia gratuita de su informe creditic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ispute cualquier información incorrecta en su informe creditic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  <a:ea typeface="Arial"/>
              </a:rPr>
              <a:t>Información en el resumen de la tarjeta de crédit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47640" y="1479600"/>
            <a:ext cx="826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umen de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ormación de pa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03320" indent="-379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ww.federalreserve.gov/creditcardcalculator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umen de asesoría crediti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iso de cambios de tasas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ansacciones o actividad de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álculo de cargos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4" descr="Statement and envelope"/>
          <p:cNvPicPr/>
          <p:nvPr/>
        </p:nvPicPr>
        <p:blipFill>
          <a:blip r:embed="rId1"/>
          <a:stretch/>
        </p:blipFill>
        <p:spPr>
          <a:xfrm>
            <a:off x="6880320" y="1066680"/>
            <a:ext cx="1778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52280" y="129528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sus recibos de la tarjeta de crédito para compararlos con sus resúmene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vise su resumen mensual para detectar cualquier e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orme de errores lo antes po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4" descr="Collection of bills and receipts beside a calculator and desktop calendar"/>
          <p:cNvPicPr/>
          <p:nvPr/>
        </p:nvPicPr>
        <p:blipFill>
          <a:blip r:embed="rId1"/>
          <a:stretch/>
        </p:blipFill>
        <p:spPr>
          <a:xfrm>
            <a:off x="5867280" y="1219320"/>
            <a:ext cx="26100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antenga un buen registro de cuen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9800" y="990720"/>
            <a:ext cx="852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 de los siguientes es un buen motivo para pagar más del mínimo que debe en su factura de su tarjeta de crédi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reflejaría como algo positivo en su historial creditic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volver a gastarlo, en montos más eleva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 compañía de la tarjeta de crédito aumentaría su límite más rápidame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agaría el saldo con más rapidez y se ahorraría dinero en intere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609480" y="1143000"/>
          <a:ext cx="7925040" cy="3618000"/>
        </p:xfrm>
        <a:graphic>
          <a:graphicData uri="http://schemas.openxmlformats.org/drawingml/2006/table">
            <a:tbl>
              <a:tblPr/>
              <a:tblGrid>
                <a:gridCol w="1524240"/>
                <a:gridCol w="1197000"/>
                <a:gridCol w="1012680"/>
                <a:gridCol w="1295280"/>
                <a:gridCol w="1295640"/>
                <a:gridCol w="1600200"/>
              </a:tblGrid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rtícul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erés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de años para amorti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1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6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91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a-d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bili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sto del 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eneficios de pagar más que el 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80880" y="1600200"/>
          <a:ext cx="8458200" cy="3521160"/>
        </p:xfrm>
        <a:graphic>
          <a:graphicData uri="http://schemas.openxmlformats.org/drawingml/2006/table">
            <a:tbl>
              <a:tblPr/>
              <a:tblGrid>
                <a:gridCol w="1422360"/>
                <a:gridCol w="884520"/>
                <a:gridCol w="1655640"/>
                <a:gridCol w="1504800"/>
                <a:gridCol w="1489320"/>
                <a:gridCol w="1501560"/>
              </a:tblGrid>
              <a:tr h="125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do orig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os mensuale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de años para amorti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és 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de pago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o mínimo (P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 + $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5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 + $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2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uston, puede que tengamos un proble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987480"/>
            <a:ext cx="83818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a cad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si cada persona está usando su tarjeta de manera respons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a lo que podría pasar si cada persona sigue usando su tarjeta de crédito como se descri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i pierde o le roban la tarjeta de crédi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0520" y="1599840"/>
            <a:ext cx="4876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¡Notifique a la compañía de la tarjeta de crédito inmediatament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9" descr="Woman on her cell phone"/>
          <p:cNvPicPr/>
          <p:nvPr/>
        </p:nvPicPr>
        <p:blipFill>
          <a:blip r:embed="rId1"/>
          <a:stretch/>
        </p:blipFill>
        <p:spPr>
          <a:xfrm>
            <a:off x="5715000" y="1447920"/>
            <a:ext cx="228600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82760" y="1142640"/>
            <a:ext cx="8432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endieron acerc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caracter?icas de las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Otras tarjetas parecidas a las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os diferentes tipos de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encontrar los mejores términ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solicitar una tarjeta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utilizar una tarjeta de crédito de manera respons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pagar la factura de su tarjeta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as tarjetas de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¿Qué es el crédit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2760" y="990720"/>
            <a:ext cx="850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le pregunta a un profesional financiero qué es el crédito, ¿cuál de estas respuestas elegiría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nero que se le entrega que no tiene que devol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nero que toma prestado para pagar cosas pero que también debe devol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nocimiento por un trabajo bien hech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t?ítulos que aparecen al final de una pelícu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rédito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habilidad de tomar dinero prestad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Préstamo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acuerdo de tomar dinero prestado a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37320" indent="-337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Garantía o aval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guridad, o bien, que promete al prestamista en caso de que no puedan devolver el présta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terés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costo de tomar dinero prest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finir el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Credit card with a padlock attached to it"/>
          <p:cNvPicPr/>
          <p:nvPr/>
        </p:nvPicPr>
        <p:blipFill>
          <a:blip r:embed="rId1"/>
          <a:stretch/>
        </p:blipFill>
        <p:spPr>
          <a:xfrm>
            <a:off x="731520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a importancia del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990720"/>
            <a:ext cx="83818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67280" indent="-467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Por qué creen que es importante el crédi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7280" indent="-467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crédit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uede ser útil en situaciones de emergenc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s más conveniente y seguro que llevar encima grandes cantidades de din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es permite hacer una compra grande, como la de un automóvil o una vivienda, y pagar por ella durante un largo tiem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uede afectar su posibilidad de obtener un trabajo, comprar o alquilar una casa, u obtener un segu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7280" indent="-467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9800" y="1219320"/>
            <a:ext cx="654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ener buen crédito significa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n a tiempo el dinero que deb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rá más fácil tomar dinero prestado en el fut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tienen problemas para usar el crédito de manera responsable, será más difícil para ustedes pedir dinero prestado en el futu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Credit card in a person's hand"/>
          <p:cNvPicPr/>
          <p:nvPr/>
        </p:nvPicPr>
        <p:blipFill>
          <a:blip r:embed="rId1"/>
          <a:stretch/>
        </p:blipFill>
        <p:spPr>
          <a:xfrm>
            <a:off x="7110360" y="1600200"/>
            <a:ext cx="172872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 buen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</cp:lastModifiedBy>
  <dcterms:modified xsi:type="dcterms:W3CDTF">2011-02-14T18:05:31Z</dcterms:modified>
  <cp:revision>2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